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50C-47FE-4304-9FE2-EB2F0257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FCD9-BF54-4A70-BA81-9B7C9F20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1BAD-2AB3-4B69-9C69-F96C7E91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57C3-F625-44CE-B614-BBD47AFE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A73E-F9A9-434F-8D8F-17B30CE2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2B73-883B-477C-8165-B3E64531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95AC-1F73-4884-BC3C-8853FB56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479-C79B-4EAB-BA61-2F9F3A09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B8DA-F274-43DD-8930-2DF66BE2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FD7E-8206-4653-9993-BBF1041C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7752-1F9D-4276-92A0-B568C356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0AA4-6248-47B8-BC31-4A63FFAB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AB43-8113-4AA4-844D-24562D441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28800"/>
            <a:ext cx="99061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3520"/>
            <a:ext cx="990612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71800"/>
            <a:ext cx="990612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28080" y="533520"/>
            <a:ext cx="174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hème de la réu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000" y="1828800"/>
            <a:ext cx="50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bjectif de la réunion (résultat à atteindre à la fin de la réun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72720" y="2971800"/>
            <a:ext cx="70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lan de la réunion (animateur, rapporteur, points abordés, durée de chaque séquence,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CHE DE PREPARATION DE RE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38:21Z</dcterms:modified>
  <cp:revision>71</cp:revision>
  <dc:subject/>
  <dc:title>Contrôle interne des risques</dc:title>
</cp:coreProperties>
</file>